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5033"/>
        <c:axId val="10240319"/>
      </c:barChart>
      <c:catAx>
        <c:axId val="158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0319"/>
        <c:crosses val="autoZero"/>
        <c:auto val="1"/>
        <c:lblAlgn val="ctr"/>
        <c:lblOffset val="100"/>
        <c:noMultiLvlLbl val="0"/>
      </c:catAx>
      <c:valAx>
        <c:axId val="10240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7BD-7265-4551-B65F-37C33E5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18E-5CEA-4FA3-8CF1-AFB66E98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AC8-D765-4430-9513-2CBAAB87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094-F79A-4484-B60F-E5D75163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42F-5FD0-465D-9FEC-DCB0C57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D13-6769-4DB9-850C-B7BDBF4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A13-C599-42BD-A52F-4D9751AD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60A-2064-4813-8165-2205E30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FAE-281C-4512-97B4-37D6FF3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810-CB01-4B49-A12A-381CB47D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DDE-D3DE-4CBC-B24B-1D4AC65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E14-AE8F-4237-9896-4A8F191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7A105-654A-4C52-ACF8-58D4563781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