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510051"/>
        <c:axId val="40504407"/>
      </c:barChart>
      <c:catAx>
        <c:axId val="11510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504407"/>
        <c:crosses val="autoZero"/>
        <c:auto val="1"/>
        <c:lblAlgn val="ctr"/>
        <c:lblOffset val="100"/>
        <c:noMultiLvlLbl val="0"/>
      </c:catAx>
      <c:valAx>
        <c:axId val="40504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10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EB5-8709-4B90-B54A-90EC8567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F5B-C777-4484-86F8-D0D08B90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9A1-B76B-409E-A91E-9195EBDC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0DE0-97B8-4694-AE5B-51C04478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09E-85BE-49E4-83DA-A0E14A03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97D-ACA0-4869-9386-E26A2E6D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60E-4D8A-423B-8BD8-F860ECC2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DEF-DADD-4EE6-9D97-A422ACA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393-D00D-4B8F-B83B-96145380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16E-3592-4CB1-9733-0A399A5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72B-6C85-4FCD-B080-53D9DAAB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7E5-C445-4BB1-9108-3E8B468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4F435-10CC-4549-B073-7975A91771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