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11810"/>
        <c:axId val="22846388"/>
      </c:barChart>
      <c:catAx>
        <c:axId val="55911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46388"/>
        <c:crosses val="autoZero"/>
        <c:auto val="1"/>
        <c:lblAlgn val="ctr"/>
        <c:lblOffset val="100"/>
        <c:noMultiLvlLbl val="0"/>
      </c:catAx>
      <c:valAx>
        <c:axId val="22846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11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845-A202-43E9-95DF-C09C9C38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AE9D-EBC5-4B1E-9703-71C77F4B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8D01-7057-485E-9FED-24B21CDA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4F1-593D-46A6-83BE-E00AC1AA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77B4-BC9E-44D1-8519-A71835B9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3985-1418-45C5-A721-FA216B61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A8F-BEEF-4207-A39D-D9FD6C29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DAA-4B40-42C9-8A4B-B1A7D418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DCA-DC1A-4FF7-890F-E7A37BE5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DD9-7E35-4F44-A85A-927ACC26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5AF-9BDA-4F0E-8E10-032B2F33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8BC-1E2B-434F-A076-061162C6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8B0B9-E94B-45D1-AA58-9C7CCFF6D9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