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33861"/>
        <c:axId val="66767946"/>
      </c:barChart>
      <c:catAx>
        <c:axId val="89133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7946"/>
        <c:crosses val="autoZero"/>
        <c:auto val="1"/>
        <c:lblAlgn val="ctr"/>
        <c:lblOffset val="100"/>
        <c:noMultiLvlLbl val="0"/>
      </c:catAx>
      <c:valAx>
        <c:axId val="66767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33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E0A-111C-4595-A208-F521F644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62C-D4FA-4F03-8F75-7E45D8A1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971-54B9-40BB-8DE5-CAD6C345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49F-A467-4609-8403-6008500B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8CB-8600-485A-AB81-8B65B3F5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789-6C64-415B-AC4E-87968FB8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CD0-CB31-481B-9902-DA2BD7F5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4E2-F1D2-47A8-8A2E-F4344BAB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2C9-87A5-4BCE-9FDD-D178C72C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206-46A5-418D-9EF4-1635857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D3C-EA89-472E-B1BD-D09E5B4A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CCD-C15A-478B-8E62-AC12204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3C246-7312-4220-B73D-05C1F6055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