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33818"/>
        <c:axId val="65963059"/>
      </c:barChart>
      <c:catAx>
        <c:axId val="35033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3059"/>
        <c:crosses val="autoZero"/>
        <c:auto val="1"/>
        <c:lblAlgn val="ctr"/>
        <c:lblOffset val="100"/>
        <c:noMultiLvlLbl val="0"/>
      </c:catAx>
      <c:valAx>
        <c:axId val="65963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33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46E-28A4-489B-B3B1-C834F332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2A3-3F40-476D-B2B2-90D7EFCE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C2F-7B65-448D-9C38-ADE12B6C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A8A-455A-45BA-BA1F-2A6D43E8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BD6-CE27-4DCE-9444-DE35B9B0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333-AACC-47A2-B220-A09798BF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829-1CAA-4A7D-9502-37F2254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392-7B87-4D41-80E5-A72EF8A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D53-213D-4B9A-9792-8F1DF7F1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06B-EA15-4E6C-838F-CB4B44F1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192-D8C3-4F25-9A94-31DA13E4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794-A726-4E59-9918-7EA4F36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4223-B023-483A-97A7-A53B4A451F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