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165240"/>
        <c:axId val="7649289"/>
      </c:barChart>
      <c:catAx>
        <c:axId val="371652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9289"/>
        <c:crosses val="autoZero"/>
        <c:auto val="1"/>
        <c:lblAlgn val="ctr"/>
        <c:lblOffset val="100"/>
        <c:noMultiLvlLbl val="0"/>
      </c:catAx>
      <c:valAx>
        <c:axId val="76492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652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FCAD-F30F-45DC-A18D-8EED4681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746A-5A2D-487D-8706-8F955681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E2CD-D24E-4971-83A7-783B0666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0AA4-3680-4F10-927B-F6851E93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78C2-C4F8-4C8B-B0EC-19062F2A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3D49-2FC4-4DFA-825B-117EE113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7D90-C96B-477D-AC43-41B164B2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03F7-1C4D-4DA5-AB80-3CD1E4DE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B707-4F95-4C5B-A625-AB558C2D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75A4-00A0-4692-B9B9-5160C048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DD3B-9DA1-43D0-806A-CEC0833A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C875-F762-44B2-81DC-7BA93843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A7549-3259-423C-B9EB-AA3C5DB835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