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522546"/>
        <c:axId val="47282266"/>
      </c:barChart>
      <c:catAx>
        <c:axId val="175225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82266"/>
        <c:crosses val="autoZero"/>
        <c:auto val="1"/>
        <c:lblAlgn val="ctr"/>
        <c:lblOffset val="100"/>
        <c:noMultiLvlLbl val="0"/>
      </c:catAx>
      <c:valAx>
        <c:axId val="47282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5225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B5F-EE41-417E-B722-A8092F2A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9C1-ABEF-4FCD-9D13-01C9FCEB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302-7A59-4342-99DB-BB7C7278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86E-A926-408A-9A11-18BB31BE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D9E6-B6A4-4EC7-8426-1FBF6E60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C5D-0B53-450E-A6E3-994F17D8B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0F2-FD82-4D3A-AB77-D2189C6B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B59-7C28-4E95-8FDA-50C9095A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32C-E63D-4953-8ABE-6EC33ECD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CFF-38CB-44C5-983F-2BDA6BCE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EA0-AAA4-4743-B328-E6F82CFB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E9D-FB35-42B1-A52D-2BABA836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88B58-0A67-4F37-BE25-3BB13E7B66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