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67965"/>
        <c:axId val="75178133"/>
      </c:barChart>
      <c:catAx>
        <c:axId val="77267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78133"/>
        <c:crosses val="autoZero"/>
        <c:auto val="1"/>
        <c:lblAlgn val="ctr"/>
        <c:lblOffset val="100"/>
        <c:noMultiLvlLbl val="0"/>
      </c:catAx>
      <c:valAx>
        <c:axId val="75178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7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8280-5CDC-40F2-BF7F-82B731A0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9BE-DCCA-48A6-AA8A-B6D7D00B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49C7-A65D-410D-BFF9-88B086FA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ED5-181F-4FEC-A839-7975E7B3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04C3-7B82-495F-A072-3EACA30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B2C-7C94-4BE5-9D0D-417F9226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8D61-5A80-4024-850A-2CB505A3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3D9-54B9-4437-A556-F100C1B5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553-4530-4727-AB22-9B530D5E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654-98ED-4BC6-963F-D67CBC8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EBC-5D4F-48FA-BCFC-C0770AA7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E18E-8AF0-49E4-9C81-BE3A778A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FE96B-DA5C-4A78-B9CD-5E398BAF2F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