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82312"/>
        <c:axId val="98134675"/>
      </c:barChart>
      <c:catAx>
        <c:axId val="75882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34675"/>
        <c:crosses val="autoZero"/>
        <c:auto val="1"/>
        <c:lblAlgn val="ctr"/>
        <c:lblOffset val="100"/>
        <c:noMultiLvlLbl val="0"/>
      </c:catAx>
      <c:valAx>
        <c:axId val="98134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82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3BA-51E4-4D66-B702-4258932B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87C-6D3F-4BE4-87DB-C70DDAE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7EF-D869-491E-BDDB-BDE3E71B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0CB-776E-4710-9AFA-AA43C101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38C-0EBA-43AA-9C9E-2EF82DC8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ED9-D4FE-4E34-BA01-5A58F933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D69-95FF-4B37-BE92-787F6E23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CD3-5707-4955-9018-B26DEC5D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6D4-F9D4-4EFB-8DAE-EE09AEED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512-AA34-4905-B47E-771BBDF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54D-EC5A-45E7-AA83-586AA0B6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C43-9550-45F3-93AC-8E07E9C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ED966-F9CD-4336-B77C-112380F541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